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FBE-DC6B-49BF-A43E-9BA6E263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102-9A9A-465D-9C9B-E8B478F2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616F-7BB2-42DC-A5E2-5CA49E5A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476-B194-4ABC-85B0-55CE6E9B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C3CE-47C7-44A3-BF56-A0E1B209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A2D0-5FCC-4D0B-B525-2AC9BDA6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2898-AFEE-4A36-BDDF-B7C841ED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331A-B36F-433E-84DC-8F3EF0A2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0CBA-33DC-4302-BAE4-7E7489FC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1114-83A1-40E3-B825-E4AA87D4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C48F-9DB0-497B-A62D-47D16671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1AF-F642-4E7A-9646-B150D138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A214-9621-4528-89ED-F6F9C2A3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8915-7BA9-47A4-8495-90CCA897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58DD-D69C-4C47-81B9-381DAF66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C471-D728-4E6B-AA31-649CA098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94F7-DECA-4D96-A88D-219CE3B7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601-522E-4E71-A205-F7A1936F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2DC-90F2-446B-8A0C-4FF5749E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3D0-777B-49C8-8927-C463597C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591-2E6C-4344-9061-9B9684B1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B593-B4AA-44D2-897B-D08DB487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C502-7068-4948-864E-C1798446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7962-4BEB-42CB-BA30-CF0576BE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10FB-CAA3-441C-B561-96E387DAC2B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0097-F9E1-4DFE-A302-72E5AEDC75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C:\Documents and Settings\colink\Local Settings\Temporary Internet Files\Content.IE5\97JP7G3P\MPj0440316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92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colink\Local Settings\Temporary Internet Files\Content.IE5\97JP7G3P\MPj0440316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927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colink\Local Settings\Temporary Internet Files\Content.IE5\97JP7G3P\MPj04403160000[1].jpg"/>
          <p:cNvPicPr/>
          <p:nvPr/>
        </p:nvPicPr>
        <p:blipFill>
          <a:blip r:embed="rId3"/>
          <a:stretch/>
        </p:blipFill>
        <p:spPr>
          <a:xfrm>
            <a:off x="-6480" y="5937120"/>
            <a:ext cx="9156960" cy="927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colink\Local Settings\Temporary Internet Files\Content.IE5\97JP7G3P\MPj04403160000[1].jpg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927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A0A7-5E61-4CA6-9E70-6FC97C86BED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B1A4-73F5-440D-BA7F-0A90B11980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C:\Documents and Settings\colink\Local Settings\Temporary Internet Files\Content.IE5\RZF77SXO\MCj04325480000[1].png"/>
          <p:cNvPicPr/>
          <p:nvPr/>
        </p:nvPicPr>
        <p:blipFill>
          <a:blip r:embed="rId1"/>
          <a:stretch/>
        </p:blipFill>
        <p:spPr>
          <a:xfrm>
            <a:off x="1054080" y="1822320"/>
            <a:ext cx="7169040" cy="41277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5142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Creator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colink\Local Settings\Temporary Internet Files\Content.IE5\97JP7G3P\MPj0440316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92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colink\Local Settings\Temporary Internet Files\Content.IE5\97JP7G3P\MPj04403160000[1].jpg"/>
          <p:cNvPicPr/>
          <p:nvPr/>
        </p:nvPicPr>
        <p:blipFill>
          <a:blip r:embed="rId3"/>
          <a:stretch/>
        </p:blipFill>
        <p:spPr>
          <a:xfrm>
            <a:off x="-6480" y="5937120"/>
            <a:ext cx="9156960" cy="927360"/>
          </a:xfrm>
          <a:prstGeom prst="rect">
            <a:avLst/>
          </a:prstGeom>
          <a:ln w="0">
            <a:noFill/>
          </a:ln>
        </p:spPr>
      </p:pic>
      <p:pic>
        <p:nvPicPr>
          <p:cNvPr id="90" name="music.mp3" descr=""/>
          <p:cNvPicPr/>
          <p:nvPr/>
        </p:nvPicPr>
        <p:blipFill>
          <a:blip r:embed="rId4"/>
          <a:stretch/>
        </p:blipFill>
        <p:spPr>
          <a:xfrm>
            <a:off x="-304920" y="15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1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19BA-9D06-40F9-8806-CE212C6139A2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F674-507C-4FD1-8435-150A7E4052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Group’s Miss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create entertainment for the people listening to the mus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uthors job is to inspire the liste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FAFF-39DB-42C3-906E-1053735AB95B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426D-CC8D-42E6-90CF-36F5CC0797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colink\Local Settings\Temporary Internet Files\Content.IE5\I46F7AGD\MCj04404040000[1].png"/>
          <p:cNvPicPr/>
          <p:nvPr/>
        </p:nvPicPr>
        <p:blipFill>
          <a:blip r:embed="rId1"/>
          <a:stretch/>
        </p:blipFill>
        <p:spPr>
          <a:xfrm rot="809400">
            <a:off x="5866920" y="35053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o We Re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ors repres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&amp; independent music art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h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ng Wri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mma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m Produc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5D56-5DEB-4485-8C92-978657E80EB5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45DC-E4EA-45C0-A6B7-03058B8F51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Documents and Settings\colink\Local Settings\Temporary Internet Files\Content.IE5\Z2VPR2HM\MCj02412550000[1].wmf"/>
          <p:cNvPicPr/>
          <p:nvPr/>
        </p:nvPicPr>
        <p:blipFill>
          <a:blip r:embed="rId1"/>
          <a:stretch/>
        </p:blipFill>
        <p:spPr>
          <a:xfrm>
            <a:off x="5711760" y="3193920"/>
            <a:ext cx="2371680" cy="231156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pyright and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er-to-peer Opin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Canadian music creators want to legalize p2p file sha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gue it’s a way for foreign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listen to their music and lear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their 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creators specially in the US believe file sharing should be controlled bet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AA3E-294C-4699-8B89-F50D14C77E8E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C042-13C8-4312-B824-4F8BF56C04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pyright a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Peer-to-peer Opin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he Music Creators, copyright is very impor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ir recognition on their work depends much on the copyright la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4AFB-FD56-49A2-AEB4-0CE5624D4C71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7F78-688F-4FD4-B02D-76EAAF065D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Documents and Settings\colink\Local Settings\Temporary Internet Files\Content.IE5\RZF77SXO\MMj01783080000[1].gif"/>
          <p:cNvPicPr/>
          <p:nvPr/>
        </p:nvPicPr>
        <p:blipFill>
          <a:blip r:embed="rId1"/>
          <a:stretch/>
        </p:blipFill>
        <p:spPr>
          <a:xfrm>
            <a:off x="6553080" y="44197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changes do we want in copyright law?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want iTunes and other music sharing sites to pay for the song samples offe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want file sharing to be legal b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the one sharing it p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A8C7-7034-4242-A3C0-A8268BF3A862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028D-847C-488B-A97E-199F96F0FA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Documents and Settings\colink\Local Settings\Temporary Internet Files\Content.IE5\I46F7AGD\MCj04338540000[1].png"/>
          <p:cNvPicPr/>
          <p:nvPr/>
        </p:nvPicPr>
        <p:blipFill>
          <a:blip r:embed="rId1"/>
          <a:stretch/>
        </p:blipFill>
        <p:spPr>
          <a:xfrm rot="20937000">
            <a:off x="4114440" y="38095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are the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y charge for sample music the creators will get more mo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creative id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C818-7FAC-4299-BA09-5B660A70CEE5}" type="datetime">
              <a:rPr b="0" lang="en-US" sz="14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DB71-47C5-4E30-B0B4-28627924F3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na Pronschinske, Brad Nisiewicz, Katia Colin, Michele Law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Documents and Settings\colink\Local Settings\Temporary Internet Files\Content.IE5\97JP7G3P\MPj04450040000[1].jp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181480" y="2433600"/>
            <a:ext cx="3240360" cy="41958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5:19:50Z</dcterms:created>
  <dc:creator>user</dc:creator>
  <dc:description/>
  <dc:language>en-US</dc:language>
  <cp:lastModifiedBy>user</cp:lastModifiedBy>
  <dcterms:modified xsi:type="dcterms:W3CDTF">2010-02-10T15:18:06Z</dcterms:modified>
  <cp:revision>14</cp:revision>
  <dc:subject/>
  <dc:title>Creators</dc:title>
</cp:coreProperties>
</file>